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7178A-D18E-41A2-A440-EC00B8AD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B1396-5ECB-440F-A2A0-34EA69EC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9B905-636E-4C57-BAD7-43903D16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78D1F-C477-46ED-90AA-83C8E4B1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1AC6-B879-40AA-AC19-AC5759D6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5ACD-841D-4B34-9AA8-2362A748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3EC5-2DBF-4E99-99C7-DD8F9D8D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09D5-8C87-4B3D-94E6-2B1C247B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17B0-D4FB-468D-B6DA-E107CF15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1BAC-0B54-46B6-B7E3-259A278D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F8C8-C051-494D-A01A-37B993A3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6230D-1CE9-43C4-8099-AD061D02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9EDF-8A7F-4E51-B790-BB8F0EA5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A075-3627-4854-B146-222AAE86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AE33-B937-4A4F-ADA3-E7B6DF1B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5227-ADC0-40F8-A27F-8C75F55B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0877-73EC-4C1E-A8A6-C48A33F9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6D7B1-D3C6-444D-8386-3E704CF7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523F3-3746-4D97-9E2E-018FFF35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12106-22EC-4FDA-A3A7-108DC3D9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1CC6A-A422-42B4-9CBB-5A9442C2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56C36-11F0-4E44-828B-3999FD12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1B38E-3B20-4F9F-B320-455EACE3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BDB0A-CC07-49EE-AFFC-220B31C9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0A22-BB58-40AD-AB91-93394BC6F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32FF-3431-40CD-8F94-B7C9D23724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971800"/>
            <a:ext cx="914400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The Power of Partnership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ving from Isolation to Cooperation in Your Ministry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152280" y="42372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become secure in their call and their role in marketplace leaders’ l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itiate relationship and partnership with marketplace lead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create places for marketplace leaders to use their gif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allow marketplace leaders to own the ministry by making deci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know and communicate their principles (core values) and vis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challenge marketplace leaders to God’s call on their lives as wel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equip marketplace leaders to become spiritual leaders in their own aren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br>
              <a:rPr sz="24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0676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377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The Law of Significance – One is too small a number to achieve something great. 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(John Maxwell)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onathan and David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1 Samuel 18 - 20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AVAIL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have any ministry partner for whom I am completely availabl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PEND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Am I dependable within the partnerships and relationships I am involve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VULNER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How vulnerable am I willing to become for someone els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RESPONSI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act responsibly and in the best interests of others in my leadership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22860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are built o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US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openness and mutual conce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need a facilitator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ORDINAT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develop in order to accomplish a specific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AS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levant partnerships begin by identifying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EED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mong the people to be serv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tnerships are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CES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not a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15228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reat partnerships are even more challenging to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AINTAI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an to sta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ruitful partnerships are made up of ministries who each have a cle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DENT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ELEBRA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 differences between the ministr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sta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OCUS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n the ultimate goals, not immediate proble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mart partnerships expec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BLEM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plan ahead for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speak into Saul’s life because he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U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is call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FFIR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aul’s complementary role and honor him for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took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ITIA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anointed Saul for the ministry role he was to fulfi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instrumental in Saul receiving a new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A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erve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KE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elping Saul use his spiritual gif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Every Ministry Leader Can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ear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5410080"/>
            <a:ext cx="883908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not intimidated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VIOU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f Saul’s conques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speak words of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REC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AY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U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Saul when he fail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confront Saul when he sinned and provide hi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PEC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possess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REDIBIL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call for repentance from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inistry Leader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MUE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U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inistry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ECURIT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arketplace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UBMI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Ministry Leader often envies the layman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CCES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 often envies the Ministry Leader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IGNIFICANC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9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br>
              <a:rPr sz="28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ig enough to attract successful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NEROUS SPIRI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nable pastors to fulfill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clude laymen i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o they can own the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include pastors in both their finances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LEND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give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HURCH’S MINISTR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give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 GIF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the church’s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IMIDA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DEPEND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can offer one thing that laymen want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ULFILL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can offer one thing that Ministry Leaders need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OURCE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1T00:06:01Z</dcterms:modified>
  <cp:revision>69</cp:revision>
  <dc:subject/>
  <dc:title>Million Leaders Mandate</dc:title>
</cp:coreProperties>
</file>